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A988-E874-4625-8B81-3B295A086EB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697B-9318-418D-81A9-8D63E5D94D9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CCDB-5AA6-42F5-A9DA-66A562FAB71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72CA-CC8C-405F-8A12-7E0CABAFAFB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3AED-517E-49E8-9BEB-CFEDC8C240C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D96C-8872-4B7B-9EC7-7CC7AD701C2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F6E0-47AB-4716-9285-E55FE30D487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C045-2564-4F17-B97A-50485809773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C187-ABEF-4559-BB4C-20A94B1E0BE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7686-F630-4AB2-ADC5-DE448B7A99A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3CE6-1893-4D4C-BF49-81D729946B7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43F8-9A24-4DD8-851D-CB9EF2D89C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54A9-672F-4D5F-B2AA-1AB434DC92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947C-0A28-4879-85CC-21FA1EC7004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66A9-1BE4-4091-B5FF-6643185906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62E1-C559-4E60-8374-A1A9757CC5C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3E60-7D3C-4DDF-B73E-1BE5DFC26C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F89C-A07E-48B7-950A-BBD6152F072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C242-4010-4981-A196-66B7A5FAF93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6FBD-68CD-4920-AD88-FEF2B992C21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3841-AA34-45A2-908E-C7CAA9B66B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ACDA-78CE-4F88-8A34-CEB4FA0731A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5DE7-AFF3-4F45-A8CC-55A345EB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316-58F6-4E32-B79F-27016D10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318-E9A9-4D95-8249-1F984205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8D1-8AC2-4DDC-8BEC-7707F176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3157-2412-4BBB-AB26-B345095D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2DBA-C532-48E3-826F-2D5B2D03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F8E3-60CA-430F-A3F5-D53E20AC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DD6C-310B-481D-84D4-7D3648D0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D095-0D80-4532-834C-9218726D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0EAB-92C8-4957-870A-08F4E9C7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5627-9231-4DE7-8E34-6B9F9AA2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8A7-33C4-4B19-A3B1-252D9F8B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2CA9-6D82-4C04-A1AE-C4D2913D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C974-149F-4E6E-AF7D-82972771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C42F-1B63-4DE0-949A-3B46E134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8C91-8575-4452-A62C-6E5796F6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BDD0-3B8D-4825-93E3-0D390F4A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C1F64-5741-4F98-B2F1-631C12A4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6FB6B-A8FF-4706-ACDC-8C54A287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5F48E-9B9D-4BE9-AB04-ADDCDAFD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37244-9B81-4530-AFEC-D6F19517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BFD55-56D3-4663-9383-1BDA0665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FE5-69BB-48D4-8AD1-E7A4888D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55983-E563-4A39-9039-73DC3E44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6FF8F-FB8A-4B77-B47E-7EEF951D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77416-2355-43F0-870F-E49315B7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ABCB5-4FE5-493F-90DF-53A3CA94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E1FEC-FF13-4281-B16B-3C90775D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57EBC-DF1D-4CAE-A0CB-124E87D2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4EC065-DDD4-4CC8-93DB-12687970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3E8A3-C389-4FFB-A1B5-777C115A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F934D-346D-409C-BCB5-0B8A2EA4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06D5E-923E-40D5-95B6-B90B9636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DDDB-17C6-4D8D-8565-3C095BCC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C54BB-1421-417E-981E-4306FCA5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A7745-D6D4-43FD-B8C2-17ACA504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037A8-FFE1-41E1-B08B-C0D0976D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4A8AB-D0B6-4360-B3D0-E11077A2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D4177-84E1-4D71-969E-BD7CC06B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83DDE-C7A2-4562-803E-FE33383A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FB20E-C3F4-4328-9B07-360C10C3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DB4AE-3E54-4AB2-BFA2-7F04BA84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1177C-6836-40B7-AABA-E2F60326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ECF-658D-4CD2-8832-E580C175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7300-2E89-480F-8E6F-A321A5FC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C30-70CE-42AD-A4F7-2353DE93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21F-1A5F-466D-84BB-745D808F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9813-5D68-4DF8-B4D9-967A2A17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E621-BA08-4223-B059-8822ED115574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99D0-408C-49B4-AA72-C86EEAB6D678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2BE9-72E8-441B-901E-FE7BD3E16620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ACDF-2936-4AB9-8CAE-62155FAC48E6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japanese-swords.gungfu.com/../../_vti_bin/shtml.exe/cnames/japanese-swords/index.htm/map2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ed.com/talks/view/id/5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민주적 기술이 따로 있고</a:t>
            </a:r>
            <a:br>
              <a:rPr sz="4400"/>
            </a:b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억압적 기술이 따로 있는가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현대 기술과 공학의 철학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0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1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5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사용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s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설계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사용에 따라 기술의 용도는 바뀔 수 있지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설계는 그 용도의 범위를 제한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칼의 용도는 설계에 의해 한정되어 있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래의 칼로 요리를 하기는 쉽지 않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46" name="Picture 4" descr="dragon-sword-s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4041720"/>
            <a:ext cx="26114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창닫기"/>
          <p:cNvPicPr/>
          <p:nvPr/>
        </p:nvPicPr>
        <p:blipFill>
          <a:blip r:embed="rId1"/>
          <a:stretch/>
        </p:blipFill>
        <p:spPr>
          <a:xfrm>
            <a:off x="611280" y="1844640"/>
            <a:ext cx="6753240" cy="67532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어떤 기술적 설계는 일차적으로 인간의 행동을 변화시키기 위한 목적을 명시적으로 가질 수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 경우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용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용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의 개념은 불분명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속방지턱의 사용자는 누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정치적 목적이 반영된 설계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설계에는 여러 목적이 고려되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 중에는 정치적 목적도 반영될 수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사용에 따라 기술의 정치적 성격은 바뀔 수 있지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설계는 그 정치적 성격의 범위를 제한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설계에 반영된 목적은 사용자가 의식적으로 고려하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고려하지 않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원하지 않든 구현될 수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예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제스의 낮은 터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경우에 따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설계는 쉽게 변경되기 어렵다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예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거대 도시 설계의 경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데이비드 노블의 사례 연구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940-50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년대 공작기계의 두 가지 발전 경로 존재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녹음재생 공작기계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수치제어 공작기계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수치제어 공작기계의 사회적 선택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MIT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로봇 엔지니어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GE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공군의 의도가 주로 반영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노동자의 숙련 제거 의도 및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기계에 대한 신뢰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의도치 않은 귀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너무 빠른 속도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통제의 어려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노동자의 의욕 저하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1968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년 새로운 프로그램 도입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노동자로 하여금 수치제어 공작기계 조작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수치제어 공작기계를 다루는 새로운 숙련 노동자 등장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노동자의 임금 상승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설계의 의도치 않은 정치적 효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보도블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계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일반버스는 장애인 차별용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지하철 출입구의 설계는 왼손잡이 차별용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의도하지는 않았더라도 기술의 설계는 자신의 물리적 성격으로 인해 정치적 효과를 가질 수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정치성 대부분은 의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+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비의도의 결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뉴욕 도시 설계의 정치적 결과 중 일부는 의도된 것이지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일부는 의도하지 않은 것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든 것을 모제스의 의도로 보는 것은 적절치 않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알려진 정치적 효과의 처방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설계 변경을 통한 치료의 가능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빗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저상버스 등의 도입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좋은 설계는 기존 기술의 목적을 여전히 잘 수행함과 동시에 정치적 문제를 제거할 수 있어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집단 간 이해관계 조정의 필요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설계 변경이나 새로운 기술의 도입엔 비용이 듦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왜 비장애인이 장애인을 위해 값비싼 돈을 지불해야 하는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왜 소수의 왼손잡이를 위해 공공시설의 설계를 헷갈리게 만들어야 하는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예상치 않은 정치적 문제의 예방법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르는 것을 어떻게 미리 막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많은 경우 몰라서가 아니라 생각지 않아서가 문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설계 과정에 다수 의견 반영된다면 일부 예방 가능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랭던 위너의 주장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우리는 정치의 규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역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관계에 기울이는 것과 똑같은 관심을 고가도로의 건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텔레비전 네트워크의 창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새로운 기계의 제작과 같은 것에 부여해야 한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본질적으로 정치적인 기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유연성을 허용하지 않는 종류의 기술이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정한 기술 시스템의 채택은 그 시스템의 작동을 보장하기 위하여 특정한 사회적 조건의 창조와 유지를 실제적으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요청한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원자력 발전과 핵폭탄은 중앙집권적 사회를 요청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정한 종류의 기술이 특정한 형태의 사회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정치적 관계를 엄격하게 요청하기보다는 그것과 강력하게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양립한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태양력 발전은 분권적 사회와 잘 양립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의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‘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요청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’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규모와 속도의 경제를 위한 거대 기술 시스템은 중앙집권적이고 위계적인 경영 통제를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요청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는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니면 그것과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잘 양립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는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 질문은 경험적 문제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분석적 문제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대안적 가능성이 존재하는가의 문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랭던 위너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분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에 따르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원자력 발전은 중앙집권적 사회 외의 대안적 가능성이 존재하지 않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렇다면 한국의 민주주의는 원자력 발전에 의해 어떤 정치적 영향을 받았는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는 경험적 문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!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스페인 이비에카 마을의 사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970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년대 초반 집집마다 수도물 공급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마을의 공공우물과 빨래터가 버려짐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활발한 사회적 상호작용의 장이 사라짐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민주주의와 자치에 대한 중대한 위협으로 인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편리함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공동체 해체라는 파우스트적 거래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우리가 던져야 하는 질문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수도냐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아니면 공동체냐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꼭 둘 중 하나만 선택해야 하는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수도와 공동체를 양손에 쥘 수 있는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기술적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”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방법은 없을까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공동체 해체가 꼭 수도 때문일까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기존 공동체 유지는 꼭 바람직한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이 정치적 성격을 가지는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동차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전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트랜지스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컴퓨터 속에서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유와 억압 또는 선과 악을 찾는 헛된 질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정치적 성격은 기술 자체에 있는 것이 아니라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것을 사용하는 인간에 있는 것이 아닌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칼이 본질적으로 악한 성격을 가진 것이 아니라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칼을 살인에 사용한 사람이 악한 것 아닌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칼은 요리를 하거나 종이를 자르기 위해서도 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용될 수 있지 않은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도시 설계에 관한 강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www.ted.com/talks/view/id/5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과제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원자력 발전이 권위주의적인 사회를 요청한다는 랭던 위너의 견해를 한국의 사례를 참고로 비판적으로 검토하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바람직하지 않은 정치적 효과를 가진 기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또는 설계방식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을 찾아 그것이 정치적 효과를 만들어내는 방식을 설명하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 문제의 해결책을 검토하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해결에 걸림돌이 있다면 그것들도 명시하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터넷이 보다 확장된 민주주의를 가져올 것이라는 주장을 비판적으로 검토하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랭던 위너의 기술의 정치성 옹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771280" y="2249640"/>
            <a:ext cx="5915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설계나 배치에 의해 정치적인 기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설계나 배치에 특정한 정치적 의도가 담겨 있거나 의도치 않았더라도 그 설계나 배치가 특정한 정치적 효과를 발휘하는 경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본질적으로 정치적인 기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정한 설계나 배치에 상관없이 특정한 종류의 정치적 관계를 요구하거나 그것과 밀접하게 양립할 수 있는 경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7" name="Picture 2" descr="Langdon Winner"/>
          <p:cNvPicPr/>
          <p:nvPr/>
        </p:nvPicPr>
        <p:blipFill>
          <a:blip r:embed="rId1"/>
          <a:stretch/>
        </p:blipFill>
        <p:spPr>
          <a:xfrm>
            <a:off x="611280" y="2421000"/>
            <a:ext cx="22003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사람들을 분리하거나 결합하는 사회적 패턴은 정치적 제도와 관행뿐만 아니라 강철과 콘크리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전선과 트랜지스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너트와 볼트에도 존재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Picture 2" descr="http://www.mcny.org/images/content/8/8/8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961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/>
          <p:cNvSpPr/>
          <p:nvPr/>
        </p:nvSpPr>
        <p:spPr>
          <a:xfrm>
            <a:off x="250920" y="26028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Robert Moses and the Modern C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Cross Bronx Expressway, The Bronx,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Photograph by Andrew Moore. © Andrew Moor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http://web.jjay.cuny.edu/~history/amsterdamwebexhibit/buildingamsterdamhouses/RobertMoses.jpg"/>
          <p:cNvPicPr/>
          <p:nvPr/>
        </p:nvPicPr>
        <p:blipFill>
          <a:blip r:embed="rId1"/>
          <a:stretch/>
        </p:blipFill>
        <p:spPr>
          <a:xfrm>
            <a:off x="-396720" y="0"/>
            <a:ext cx="979776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697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Robert Moses (1888-1981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e “master builder” of mid-20th century 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New York City, Long Island, Rockland County, and Westchester County, New York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ses’s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arkway to Jones Beach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2ft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높이의 버스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통과할 수 없는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9ft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터널들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카로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&amp;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위너의 주장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터널의 설계에 빈민과 흑인의 존스 비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접근을 막기 위한 모제스의 정치적 의도 반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6" descr="bathing"/>
          <p:cNvPicPr/>
          <p:nvPr/>
        </p:nvPicPr>
        <p:blipFill>
          <a:blip r:embed="rId1"/>
          <a:stretch/>
        </p:blipFill>
        <p:spPr>
          <a:xfrm>
            <a:off x="4284720" y="4338720"/>
            <a:ext cx="4248000" cy="2519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parkway"/>
          <p:cNvPicPr/>
          <p:nvPr/>
        </p:nvPicPr>
        <p:blipFill>
          <a:blip r:embed="rId2"/>
          <a:stretch/>
        </p:blipFill>
        <p:spPr>
          <a:xfrm>
            <a:off x="826920" y="431964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사실 관계에 대한 논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모제스는 정말 인종주의자인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모제스는 정말 인종 및 계급 차별적인 의도에서 터널을 낮게 설계했는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증거 불충분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미국의 다른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arkway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들도 트럭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버스 등의 상업용 차량 진입 금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모제스는 관행을 따랐을 뿐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흑인과 빈민은 정말 존스 비치에 접근할 수 없었는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여러 교통망으로 접근 가능했지만 가지 않았을 뿐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그럼에도 모제스의 도시 개발 취향 강하게 반영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대중교통보다 자가용 교통망 분명히 선호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고속도로를 도시 관통하도록 설계하여 일부 지역 파괴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교외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중산층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중심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빈민 구조의 현대 뉴욕을 만든 주범으로 지목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다른 사례들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나폴레옹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세의 파리 거리 재정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96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대 대학 캠퍼스 내 건축물들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98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대 서울대 아크로의 장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88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대 시카고 사이러스 매코믹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수확기 제조공장의 공기 주형 기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장의 기술 중에는 생산 효율 증가의 목적 이외의 목적을 가진 경우도 상당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07:51:09Z</dcterms:created>
  <dc:creator>zolaist</dc:creator>
  <dc:description/>
  <dc:language>en-US</dc:language>
  <cp:lastModifiedBy>zolaist</cp:lastModifiedBy>
  <dcterms:modified xsi:type="dcterms:W3CDTF">2010-11-04T13:40:53Z</dcterms:modified>
  <cp:revision>71</cp:revision>
  <dc:subject/>
  <dc:title>민주적 기술이 따로 있고 억압적 기술이 따로 있는가?</dc:title>
</cp:coreProperties>
</file>